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4.pct" ContentType="image/x-pict"/>
  <Override PartName="/ppt/media/image1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70C-F321-4B7D-82D8-622B676B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D64-D5B9-4E3F-BED1-A6F7C790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E9C-ADB0-4A62-A0D9-6D3E19FB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FD1-11C2-43AF-91AD-6A79AD24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7590-954C-4F6A-9F22-07B6CD8D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E15F-75A5-41D4-8768-9D9FEB6C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12D9-3065-46B4-B9CB-C1DBE268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7461-2B37-449B-A26B-21D4EFEF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3A87-9CF6-45DD-B182-18912E71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425A-C260-4839-8C5B-006D4B04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16AF-3F4C-446A-8488-A5CF49D8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5DE-4190-4226-A00C-6804979C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BCAD-5C83-4F9E-981C-C5685D1F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EA2B-58D0-43A6-AFF3-460F8D4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02E9-10E7-4207-82A9-5650CB6A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3ED-2A55-482F-A310-CC4096EE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71CF-77B1-4D8B-9064-1232D958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105-9FFE-495B-B64C-B9AB414B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8BA-18BC-43D4-8246-402542D9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DFC-80E1-44DE-990E-A4096C15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136-3C3D-449B-B341-9857E29C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936-1F9C-4A67-8E83-26EA7C2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A21-6436-4630-A2A3-A4FDA442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883-CBA8-422A-9821-B3FC0EF5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0C33-9853-47CB-8AB0-ED98EF56730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F824-8463-4194-A609-5E7E4AFB653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TRO. TO ANATOMY &amp; PHYSIOLOG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rous membra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embranes that line trunk cavities and cover the organs in those cav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wo lay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VISCERAL: Inner layer in contact with org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ARIETAL: OUTER PART OF WA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pace in between usually filled with flui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alloon mod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 Black"/>
              </a:rPr>
              <a:t>Homeostasis &amp; System Integr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Homeostasis</a:t>
            </a: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: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Systems maintain stable internal envmt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A. 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Negative Feedback</a:t>
            </a: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 (temperature, insulin)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Oppose altered condition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Autoregulation</a:t>
            </a:r>
            <a:r>
              <a:rPr b="0" i="1" lang="en-US" sz="3000" spc="-1" strike="noStrike">
                <a:solidFill>
                  <a:srgbClr val="eaeaea"/>
                </a:solidFill>
                <a:latin typeface="Arial Black"/>
              </a:rPr>
              <a:t>-</a:t>
            </a: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 automatic change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Extrinsic regulation-</a:t>
            </a: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 nervous or endocrine response when autoreg. fail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B. 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Positive Feedback </a:t>
            </a: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(clotting, labor)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Reinforces stimulus/ conditions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C. </a:t>
            </a:r>
            <a:r>
              <a:rPr b="0" lang="en-US" sz="3000" spc="-1" strike="noStrike" u="sng">
                <a:solidFill>
                  <a:srgbClr val="eaeaea"/>
                </a:solidFill>
                <a:uFillTx/>
                <a:latin typeface="Arial Black"/>
              </a:rPr>
              <a:t>Disease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Homeostasis regulation breaks down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Negative &amp; Positive Feedback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553068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867280" y="1944720"/>
            <a:ext cx="3276720" cy="4913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82560" y="1832760"/>
            <a:ext cx="333828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Negative Feed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90160" y="1223280"/>
            <a:ext cx="3143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Positive Feed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>
            <a:hlinkClick r:id="rId3" action="ppaction://hlinksldjump"/>
          </p:cNvPr>
          <p:cNvSpPr/>
          <p:nvPr/>
        </p:nvSpPr>
        <p:spPr>
          <a:xfrm>
            <a:off x="990720" y="6477120"/>
            <a:ext cx="264960" cy="26496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>
            <a:hlinkClick r:id="rId4" action="ppaction://hlinksldjump"/>
          </p:cNvPr>
          <p:cNvSpPr/>
          <p:nvPr/>
        </p:nvSpPr>
        <p:spPr>
          <a:xfrm>
            <a:off x="5562720" y="6593040"/>
            <a:ext cx="264960" cy="264960"/>
          </a:xfrm>
          <a:custGeom>
            <a:avLst/>
            <a:gdLst>
              <a:gd name="textAreaLeft" fmla="*/ 16920 w 264960"/>
              <a:gd name="textAreaRight" fmla="*/ 248040 w 26496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 Black"/>
              </a:rPr>
              <a:t>Clinical Techn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X-Ray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High energy rad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2. CT (Computerized Tomography) Sc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3D image by rotating x-ray sour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3. MRI (Magnetic Resonance Imagi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Magnetic field &amp; radio wav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4. Ultrasound (AKA Sonogr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High freq. sound wav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3520" y="4562640"/>
            <a:ext cx="3581280" cy="2295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257800" y="4408560"/>
            <a:ext cx="355428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 Black"/>
              </a:rPr>
              <a:t>Functions of all Living Thing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343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Organiz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Metabol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Absorb material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Diges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Respir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Circul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Excre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Responsive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Grow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Re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68760" y="1674720"/>
            <a:ext cx="1836720" cy="1473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340160" y="3922560"/>
            <a:ext cx="1828800" cy="1916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934320" y="137160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6400800" y="3809880"/>
            <a:ext cx="236232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96440" y="3960"/>
            <a:ext cx="39283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atomy &amp; Physi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8200" y="3960"/>
            <a:ext cx="1142280" cy="52056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o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24320" y="4195080"/>
            <a:ext cx="2713680" cy="52056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velopme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5840" y="4195080"/>
            <a:ext cx="2161800" cy="52056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croscop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10640" y="3960"/>
            <a:ext cx="1978920" cy="520560"/>
          </a:xfrm>
          <a:prstGeom prst="rect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hysi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240" y="689760"/>
            <a:ext cx="14335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u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7480" y="2823480"/>
            <a:ext cx="16560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pecial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0280" y="2061360"/>
            <a:ext cx="164988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yste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7800" y="1375560"/>
            <a:ext cx="16362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g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82080" y="5033160"/>
            <a:ext cx="217728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mbry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1120" y="5871240"/>
            <a:ext cx="332928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nital Def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31840" y="659520"/>
            <a:ext cx="78732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72120" y="2823480"/>
            <a:ext cx="285084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physi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2360" y="1375560"/>
            <a:ext cx="1387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yst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15800" y="2061360"/>
            <a:ext cx="223524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tholog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9840" y="4880880"/>
            <a:ext cx="163476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yt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52520" y="5642640"/>
            <a:ext cx="17550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87480" y="2289960"/>
            <a:ext cx="147312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ed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51920" y="2899440"/>
            <a:ext cx="238896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diograph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07280" y="3509280"/>
            <a:ext cx="151272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urg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294920" y="304920"/>
            <a:ext cx="685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30492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209320" y="533520"/>
            <a:ext cx="228600" cy="3657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33520"/>
            <a:ext cx="152280" cy="3657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81080" y="2590920"/>
            <a:ext cx="68580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3048120"/>
            <a:ext cx="685800" cy="759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81080" y="3200400"/>
            <a:ext cx="68580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 Black"/>
              </a:rPr>
              <a:t>Levels of Organiz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137880" y="5534640"/>
            <a:ext cx="2736360" cy="13388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Chemical/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Molecul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55600" y="4938480"/>
            <a:ext cx="2041560" cy="7358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Cellul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7640" y="4328640"/>
            <a:ext cx="1740600" cy="73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Tiss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90600" y="3338280"/>
            <a:ext cx="1755360" cy="7358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Org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4640" y="2272320"/>
            <a:ext cx="1962360" cy="1338840"/>
          </a:xfrm>
          <a:prstGeom prst="ellipse">
            <a:avLst/>
          </a:prstGeom>
          <a:solidFill>
            <a:srgbClr val="65b2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Orga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Syst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63720" y="1280880"/>
            <a:ext cx="2595960" cy="735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Organ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904760" y="1981080"/>
            <a:ext cx="9903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3048120"/>
            <a:ext cx="106668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752480" y="3962520"/>
            <a:ext cx="152424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4876920"/>
            <a:ext cx="838080" cy="304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209680" y="5486400"/>
            <a:ext cx="106704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81480" y="892080"/>
            <a:ext cx="3729240" cy="596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11 Major Organ System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2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Integument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Skele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Muscul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Lymph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Respira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Diges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Nerv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Endocr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Cardiovascul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Urina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Reproduc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437000" y="900000"/>
            <a:ext cx="4707000" cy="59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 Black"/>
              </a:rPr>
              <a:t>Frame of Reference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 Black"/>
              </a:rPr>
              <a:t>Superficial Anatom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2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Anatomical Landmar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natomical Pos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-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Supine-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 face 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-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Prone-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 face d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2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Anatomical Reg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bdominopelvic quadrants (R/L-U&amp;LQ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bdominopelvic regions (9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419720" y="1143000"/>
            <a:ext cx="4724280" cy="5715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645080" y="1598760"/>
            <a:ext cx="403704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 Black"/>
              </a:rPr>
              <a:t>Frames of Reference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 Black"/>
              </a:rPr>
              <a:t>Superficial Anatom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5711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3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Anatomical Dire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Front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ventral, anter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Back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dorsal, poster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Head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cranial, cephalic, super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Tail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caudal, infer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Medial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close to long ax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Lateral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away from long ax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Proximal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toward attached 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Distal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away from attached b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312408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Arial Black"/>
              </a:rPr>
              <a:t>Sectional Anatomy</a:t>
            </a:r>
            <a:br>
              <a:rPr sz="4000"/>
            </a:br>
            <a:r>
              <a:rPr b="0" i="1" lang="en-US" sz="4000" spc="-1" strike="noStrike">
                <a:solidFill>
                  <a:srgbClr val="ccecff"/>
                </a:solidFill>
                <a:latin typeface="Arial Black"/>
              </a:rPr>
              <a:t>Human Planes &amp; Sec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Transverse/ Cross sx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Inf &amp; s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2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Frontal/ Cor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nt/ ventral from post/ dorsal (animal: Ven/ Dl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3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Sagit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Right from lef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Mid Sagitt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276720" cy="563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Arial Black"/>
              </a:rPr>
              <a:t>Body Caviti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457200"/>
            <a:ext cx="6553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Cavity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 organ chamb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Functions</a:t>
            </a: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Protects &amp; cush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Organ size/ shape chan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Dorsal Body Cav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Cran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Spi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 Black"/>
              </a:rPr>
              <a:t>Ventral Body Cav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Thoracic- diaphrag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282320" indent="-3769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Pleu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282320" indent="-3769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Pericard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282320" indent="-3769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Mediastinu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Arial Black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bdominopelvic/ Peritone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282320" indent="-3769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Abdomi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282320" indent="-37692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Pelv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324480" y="609480"/>
            <a:ext cx="281952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6:48:53Z</dcterms:created>
  <dc:creator>Melissa Hecht</dc:creator>
  <dc:description/>
  <dc:language>en-US</dc:language>
  <cp:lastModifiedBy>Ignacio/Jayo</cp:lastModifiedBy>
  <dcterms:modified xsi:type="dcterms:W3CDTF">2007-09-11T02:17:01Z</dcterms:modified>
  <cp:revision>29</cp:revision>
  <dc:subject/>
  <dc:title>INTRO. TO ANATOMY &amp; PHYSIOLOGY</dc:title>
</cp:coreProperties>
</file>